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1FC2-5115-44B4-8600-F206CB72AC4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0BF5-CA09-4C9C-A322-78815B82EDD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υκνότητα της συμμετοχής (density of membership) αναφέρεται στο ποσοστό όσων ασκούν το δικαίωμα της συμμετοχής τους σε κάποια ομάδα επί του συνόλου των δικαιουμένων να συμμετάσχουν σε αυτή. Όταν η πυκνότητα της συμμετοχής είναι υψηλή, αυξάνεται αναλόγως η επιρροή των ομάδων και κατ' επέκταση ενισχύεται η διαπραγματευτική τους ισχύς έναντι της κυβέρνηση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0A37-57CD-40FF-9113-C0AFF4A78A1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λυταρχικοί ηγέτες βλέπουν στο πρόσωπο των ελεύθερα οργανωμένων ομάδων μια απειλή για την εξουσία τους. Έτσι, επιδιώκουν είτε την ποδηγέτηση των ομάδων, είτε την ενσωμάτωσή τους στην υφιστάμενη δομή της εξουσίας.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9595-1B3A-4824-ABA4-DEF4462C75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τα σύνορα ανάμεσα στη δημόσια και την ιδιωτική σφαίρα είναι προφανώς δυσδιάκριτα, δίνοντας τη δυνατότητα στον πρόεδρο και στους συμμάχους του να παρεμβαίνουν στην οικονομία, για να επιβραβεύουν τους φίλους και να τιμωρούν τους εχθρούς 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λάχιστον στις πιο αναπτυγμένες ανελεύθερες δημοκρατίες, το αποτέλεσμα μπορεί να είναι ένα διττό σύστημα αντιπροσώπευσης, που παραχωρεί κάποιο ρόλο στις ομάδες συμφερόντων σε ζητήματα ρουτίνας, ενώ παράλληλα διατηρεί τα πελατειακά δίκτυα σε ζητήματα ζωτικής σημασίας για τον πρόεδρο και το περιβάλλον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γενικό συμπέρασμα είναι ότι, παρόλο που οι ανελεύθερες δημοκρατίες επιτρέπουν σε ορισμένα συμφέροντα να εκφράζονται, αυτές καθαυτές οι ομάδες συμφερόντων είναι λιγότερο σημαντικές απ' ό,τι σε μια φιλελεύθερη δημοκρατία.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3025-031F-4188-92B4-9079202D22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ομάδες συμφερόντων (interest groups) (ονομάζονται και ομάδες πίεσης) είναι μη κυβερνητικές οργανώσεις, οι οποίες επιδιώκουν την άσκηση επιρροής στη δημόσια πολιτική. Στις ομάδες συμφερόντων εντάσσονται, για παράδειγμα, οι ενώσεις των εργοδοτών, τα συνδικάτα, οι καταναλωτικές ενώσεις, οι ενώσεις που εκπροσωπούν συγκεκριμένους επιχειρηματικούς ή επαγγελματικούς κλάδους, καθώς και οι ομάδες πίεσης που προωθούν συγκεκριμένες αξιώσεις. Ο όρος συνήθως δεν περιλαμβάνει φορείς όπως οι επιχειρήσεις και οι τοπικές αρχές, οι οποίες μπορεί να ασκούν πιέσεις και επιρροή στην κυβέρνηση, δεν είναι, όμως, αυτός ο πρωταρχικός σκοπός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7934-CF77-4773-BEA1-DA1F9CA1E5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πράγμα που μας έρχεται στο νου, όταν αναφερόμαστε σε ομάδες συμφερόντων, είναι η εικόνα προστατευτικών ενώσεων (protective groups) που εκφράζουν τα ζωτικά συμφέροντα των μελών τους - για παράδειγμα, τα συνδικάτα, οι ενώσεις εργοδοτών και οι επαγγελματικοί σύλλογοι. Οι ενώσεις αυτές, που ονομάζονται καμιά φορά κλαδικές ή λειτουργικές ομάδες, σχηματίζονται με σκοπό την άσκηση επιρροής στην κυβέρν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στατευτικές ομάδες δεν είναι οι μοναδικές μορφές οργανωμένου συμφέροντος. Μάλιστα, πολλές ομάδες που δημιουργήθηκαν μετά τη δεκαετία του '60 δεν έχουν καν προστατευτικό χαρακτήρα, αλλά επιδιώκουν την προώθηση συγκεκριμένων σκοπών. Οι σχηματισμοί αυτοί προωθούν ιδέες, ταυτότητες, πολιτικές και αξίες και ονομάζονται ομάδες πίεσης για την προώθηση συγκεκριμένων αξιώσεων (promotional groups). Εδώ ανήκουν, π.χ., οι οργανώσεις που τάσσονται υπέρ ή κατά των αμβλώσεων, αυτές που πολεμούν την πορνογραφία και οι περιβαλλοντικές οργανώσεις. Τα μέλη τους ενδιαφέρονται για το συγκεκριμένο ζήτημα χωρίς να έχουν τα ίδια κάποιο συμφέρον.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C18B-F22F-49F0-B2C7-86FC84FC52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ρυφαία συνομοσπονδία εργαζομένων και εργοδοτών (peak association) είναι η οργάνωση που εκπροσωπεί τα ευρύτερα συμφέροντα του κεφαλαίου ή των εργατών στους κυβερνητικούς θεσμούς. Τα μέλη τους δεν είναι πρόσωπα αλλά άλλοι οργανισμοί, όπως επιχειρήσεις, σωματεία εργαζομένων, εργατικά συνδικά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BD70-573D-4097-A90E-0859E327371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ημοκρατικό πλαίσιο, ο κορπορατισμός (corporatism) (που συνοψίζεται στην Ευρώπη με τη φράση το σύστημα των κοινωνικών εταίρων) δηλώνει μια σχέση ανάμεσα στο κράτος και τις ομάδες συμφερόντων κατά την οποία οι σημαντικές αποφάσεις για τα εσωτερικά ζητήματα διαμορφώνονται έπειτα από συζητήσεις ανάμεσα στην κυβέρνηση και τις κορυφαίες οργανώσεις που εκπροσωπούν τους βασικούς κοινωνικούς εταίρους: το κεφάλαιο και τους εργαζομέν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EBF2-3E0E-40A2-A742-23F13191771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λουραλισμός (pluralism), που σημαίνει κυριολεκτικά εξουσία από τους πολλούς, αναφέρεται σε πολιτικό σύστημα όπου πολυάριθμες ανταγωνιστικές ομάδες συμφερόντων ασκούν σημαντική επιρροή στην κυβέρνηση, η οποία ανταποκρίνεται στα αιτήματά τους. Το κράτος παίζει το ρόλο του επιδιαιτητή, και όχι του ενεργού δρώντος. Κάθε ομάδα αφοσιώνεται στη δική της σφαίρα δράσης (για παράδειγμα, στην εκπαίδευση ή την υγεία), οπότε αποτρέπεται η γενική κυριαρχία της οποιασδήποτε ελί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8D37-0507-4D16-B285-59EEE3D3CF2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ιδηρά τρίγωνα (iron triangles), υποκυβερνήσεις και πολιτικές κοινότητες είναι κλειστές συμμαχίες συμφερόντων, που βασίζονται σε ανώτερους γραφειοκράτες, σε ηγέτες ομάδων συμφερόντων και, ενίοτε, σε αρμόδιους νομοθέτες. Κυριαρχούν στη χάραξη της πολιτικής σε συγκεκριμένους τομείς (όπως η αγροτική πολιτική). Σε πολλές φιλελεύθερες δημοκρατίες, αυτά τα μυστικοπαθή και εξόχως μη πλουραλιστικά καρτέλ έχουν παραχωρήσει τη θέση τους σε πιο χαλαρά και πλουραλιστικά θεματικά δίκτυα (issue networks), τα οποία είναι πιο ανοιχτά στις άλλες οργανώσεις και τον τεκμηριωμένο διάλογ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9D24-281D-40B5-A9DD-17AA020D80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ιδανικό για τις ομάδες συμφερόντων είναι οι άμεσες επαφές με τους υπουργούς που συνθέτουν την εκτελεστική εξουσία. Οι συνομιλίες με υπουργούς πριν από την αποκρυστάλλωση συγκεκριμένων πολιτικών έχει ιδιαίτερη αξία, καθώς επιτρέπει σε μια ομάδα να συμμετάσχει στη διαδικασία λήψης των αποφάσεων στο στάδιο της διαμόρφωσής τους.</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ο παρελθόν, πολλές ομάδες συμφερόντων προσπάθησαν να χρησιμοποιήσουν κάποιο πολιτικό κόμμα της αρεσκείας τους ως δίοδο επιρροής, με το κόμμα και την ομάδα συμφέροντος να συνδέονται με οιονεί οικογενειακούς δεσμούς. Αυτοί οι δεσμοί ανάμεσα στις ομάδες και τα κόμματα είναι, όμως, σήμερα η εξαίρεση. Σήμερα βλέπουμε μια όλο και πιο έντονη τάση εξειδίκευσης, καθώς οι ομάδες συμφερόντων εστιάζουν στα μέλη τους και τα κόμματα στους ψηφοφόρους τους. Το αποτέλεσμα είναι ότι οι περισσότερες ομάδες συμφερόντων προτιμούν να επιδιώκουν ανεξάρτητα τους σκοπούς τους, παρά να αναπτύσσουν στενούς δεσμούς με κάποιο πολιτικό κόμμα.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ύπος, το ραδιόφωνο και η τηλεόραση αποτελούν ένα ακόμη πρόσφορο μέσο για την άσκηση επιρροής από τις ομάδες συμφερόντων. Εξ ορισμού, τα μηνύματα των ΜΜΕ απευθύνονται στο ευρύ κοινό, και όχι σε συγκεκριμένους πολιτικούς παράγοντες. Έτσι, τα μέσα ενημέρωσης αποτελούν βασική προτεραιότητα για τις ομάδες πίεσης που προωθούν συγκεκριμένες αξιώσεις, καθώς με αυτό τον τρόπο μπορούν να κινητοποιήσουν την κοινή γνώμη.</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Νόμος περί αναδιοργάνωσης της νομοθετικής εξουσίας (1946), των ΗΠΑ, ορίζει το λομπίστα (lobbyist) ως κάθε άτομο ή οργάνωση που λαμβάνει χρήματα από τρίτους προκειμένου να ασκήσει επιρροή στη νομοθετική διαδικασία. Ο όρος προέρχεται από τον προθάλαμο (= lobby) της βρετανικής Βουλής των Κοινοτήτων. Εκεί οι πολίτες μπορούν παραδοσιακά να προσεγγίζουν τα μέλη του κοινοβουλίου για να εκφράσουν τα αιτήματά τους.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2DF9-4AFA-4831-869D-2D0E176E9A8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ν υπάρχει αμφιβολία ότι ορισμένες ομάδες συμφερόντων ασκούν μεγαλύτερη επιρροή στην κυβέρνηση από κάποιες άλλες. Για ποιο λόγο, λοιπόν, ορισμένες ομάδες συμφερόντων είναι ισχυρότερες από κάποιες άλλες; Η απάντηση σχετίζεται με τέσσερα χαρακτηριστικά των εν λόγω ομάδων: τη νομιμοποίησή τους, τον αριθμό των μελών τους, τις οικονομικές τους δυνατότητες και τα μέσα πίεσης που διαθέτου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C4B6-39F6-44F3-BD5D-FC92D17D2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B721-B457-4675-8B46-BE942559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B7429-F652-4C84-B8FD-EEE647AEE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2B1B7-2E49-43E0-8F55-AC2DF0E6D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F93C4-881C-4D2F-8029-AB15AA2FE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AADA7-2C9B-4DBB-B5AC-5E7CB43DC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DCF0A-78EA-4A32-9239-3E007E321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31187-8933-4D00-8DA3-87849625F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B8244-914A-4D7E-9F26-36BC47E8B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C8705-3B7C-467E-BA35-4E80D333C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B28C-11A8-4F79-86C2-20AF66E1E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0672-8F4E-4FDB-9FFB-ED74E648E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63701-79D2-49BE-9BB5-F66EE80F6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8C41D-E6D6-4F63-9F8A-567FE2A9B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EA300-D57B-470F-9D94-7518655B9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2D7B0-259C-4BF1-8D4F-E11D5CBEC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7E824-305C-453B-AC64-24C5E1332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C928-1F57-4CB3-8D3F-6A360EFB8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5955-C9C5-4633-82CA-780D096C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9BFA2-52FA-43AC-B2CA-9BD6F47B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E606-0D05-4D59-A371-B46306A7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43E2-0433-4699-8D55-D0B5FDB7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D562-D2B2-49F3-8265-33647BF2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D679-C9BA-4884-BE15-00D4924D0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9BAA-C88E-4A0C-8DF9-A80FE37578E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E0A7-EAF7-4C76-8B34-A5896CE4BF4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2</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άδες συμφερόν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ϋποθέσεις επιρροής </a:t>
            </a:r>
            <a:endParaRPr b="0" lang="en-US" sz="42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υκνότητα της συμμετοχής (density of membership) αναφέρεται στο ποσοστό όσων ασκούν το δικαίωμα της συμμετοχής τους σε κάποια ομάδα επί του συνόλου των δικαιουμένων να συμμετάσχουν σε αυ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ομάδες συμφερόντων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δηγέτηση των ομάδ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σωμάτωσή τους στην υφιστάμενη δομή εξουσί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ομάδες συμφερόντων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κά δίκτυ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ένη σημασία των ομάδων συμφερόν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 </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ομάδες συμφερόντων (interest groups) (ονομάζονται και ομάδες πίεσης) είναι μη κυβερνητικές οργανώσεις, οι οποίες επιδιώκουν την άσκηση επιρροής στη δημόσια πολι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τατευτικές ομάδ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άδες πίε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ρυφαία συνομοσπονδία εργαζομένων και εργοδοτών (peak association) είναι η οργάνωση που εκπροσωπεί τα ευρύτερα συμφέροντα του κεφαλαίου ή των εργατών στους κυβερνητικούς θεσμούς. Τα μέλη τους δεν είναι πρόσωπα αλλά άλλοι οργανισμοί, όπως επιχειρήσεις, σωματεία εργαζομένων, εργατικά συνδικά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δημοκρατικό πλαίσιο, ο κορπορατισμός (corporatism) δηλώνει μια σχέση ανάμεσα στο κράτος και τις ομάδες συμφερόντων κατά την οποία οι σημαντικές αποφάσεις για τα εσωτερικά ζητήματα διαμορφώνονται έπειτα από συζητήσεις ανάμεσα στην κυβέρνηση και τις κορυφαίες οργανώσεις που εκπροσωπούν τους βασικούς κοινωνικούς εταίρους: το κεφάλαιο και τους εργαζομέν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μάδες συμφερόντων στις φιλελεύθερες δημοκρατίες</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πλουραλισμός (pluralism), που σημαίνει κυριολεκτικά εξουσία από τους πολλούς, αναφέρεται σε πολιτικό σύστημα όπου πολυάριθμες ανταγωνιστικές ομάδες συμφερόντων ασκούν σημαντική επιρροή στην κυβέρνηση, η οποία ανταποκρίνεται στα αιτήματά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μάδες συμφερόντων </a:t>
            </a:r>
            <a:br>
              <a:rPr sz="3800"/>
            </a:br>
            <a:r>
              <a:rPr b="0" lang="el-GR" sz="3800" spc="-1" strike="noStrike">
                <a:solidFill>
                  <a:srgbClr val="660033"/>
                </a:solidFill>
                <a:latin typeface="Times New Roman"/>
              </a:rPr>
              <a:t>στις φιλελεύθερες δημοκρατίες</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ιδηρά τρίγωνα (iron triangles), υποκυβερνήσεις και πολιτικές κοινότητες είναι κλειστές συμμαχίες συμφερόντων, που βασίζονται σε ανώτερους γραφειοκράτες, σε ηγέτες ομάδων συμφερόντων και, ενίοτε, σε αρμόδιους νομοθέ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ίοδοι επιρροή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ες επαφές με τα κέντρα αποφάσε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πιρροή μέσω των πολιτικών κομμάτ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πιρροή μέσω της κοινής γνώμ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ομπίσ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ϋποθέσεις επιρροής </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600200"/>
            <a:ext cx="7772400" cy="380880"/>
          </a:xfrm>
          <a:prstGeom prst="rect">
            <a:avLst/>
          </a:prstGeom>
          <a:noFill/>
          <a:ln w="0">
            <a:noFill/>
          </a:ln>
        </p:spPr>
        <p:txBody>
          <a:bodyPr anchor="t">
            <a:normAutofit fontScale="95000"/>
          </a:bodyPr>
          <a:p>
            <a:pPr marL="325800" indent="-32580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2.4:</a:t>
            </a:r>
            <a:r>
              <a:rPr b="0" lang="en-US" sz="2000" spc="-1" strike="noStrike">
                <a:solidFill>
                  <a:srgbClr val="000000"/>
                </a:solidFill>
                <a:latin typeface="Arial"/>
              </a:rPr>
              <a:t> </a:t>
            </a:r>
            <a:r>
              <a:rPr b="0" lang="el-GR" sz="2000" spc="-1" strike="noStrike">
                <a:solidFill>
                  <a:srgbClr val="000000"/>
                </a:solidFill>
                <a:latin typeface="Arial"/>
              </a:rPr>
              <a:t>Προϋποθέσεις επιρροής ομάδων συμφερόντων</a:t>
            </a:r>
            <a:endParaRPr b="0" lang="en-US" sz="2000" spc="-1" strike="noStrike">
              <a:solidFill>
                <a:srgbClr val="000000"/>
              </a:solidFill>
              <a:latin typeface="Arial"/>
            </a:endParaRPr>
          </a:p>
        </p:txBody>
      </p:sp>
      <p:pic>
        <p:nvPicPr>
          <p:cNvPr id="122" name="Picture 4" descr="C:\Users\EPIMELEIA\Dropbox\Kritiki-Book-Proofing\14-sigritiki-politiki-hague\images\Hag_Fig_12_04.png"/>
          <p:cNvPicPr/>
          <p:nvPr/>
        </p:nvPicPr>
        <p:blipFill>
          <a:blip r:embed="rId1"/>
          <a:stretch/>
        </p:blipFill>
        <p:spPr>
          <a:xfrm>
            <a:off x="2438280" y="2209680"/>
            <a:ext cx="4106880" cy="39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8:54:37Z</dcterms:created>
  <dc:creator>pc</dc:creator>
  <dc:description/>
  <dc:language>en-US</dc:language>
  <cp:lastModifiedBy>EPIMELEIA</cp:lastModifiedBy>
  <dcterms:modified xsi:type="dcterms:W3CDTF">2013-09-23T09:38:58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